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DA5B-3C71-467E-A6FD-EB57A9C10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D326-ECBF-4E04-90C8-54E22E2A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6E9D-71DF-43D1-8DEF-528B6BDF3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0FF16-C956-4444-BFEF-9585E28DE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5EA4-D378-401A-840E-3A7807AFF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16FF-AC52-425F-BA22-8E20F3FB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D3401-4D24-465D-B40F-0ACEC8654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7BAB-1A72-438E-B007-6A336941A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C1D5-9D0F-4910-8298-8D444736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2846-DB1B-47A3-BDB7-CDCCAE85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CEF27-6CB4-46C2-8AD2-DD15AF58D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5DF2-8DF3-4F8E-AC58-FD53236C3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EDA6-CB6C-4EFB-BD17-16C8AB7E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BA41-12B8-4C5A-A87F-7AB2FC7A6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A9DA-1F03-45E4-9A59-3F8A08FB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D042-8B8F-4DF2-A2C6-6C350503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A1AE-2659-454B-AF71-09D5AAE88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2ED7-D070-41C2-ADC7-28047627B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272E-2A5E-44E4-BD35-B12E3B57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6346-29FF-4FFD-9B12-824DA8E8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9A69-A85A-4E71-8C6F-8ACBD704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C28E-A6EA-4F08-8DCB-D6EABEAF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1A72-34A7-4FE8-BE9B-7C6992E6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DAB6-ED62-48C2-9400-23C3070B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74C4-F2A8-44C3-A75E-4EF51E38F842}" type="slidenum"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828D-764A-46C6-88E7-1447ABA3E218}" type="slidenum"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images.china.cn/images1/200510/206919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Arial Black"/>
              </a:rPr>
              <a:t>          </a:t>
            </a:r>
            <a:r>
              <a:rPr b="1" lang="en-US" sz="4000" spc="-1" strike="noStrike">
                <a:solidFill>
                  <a:srgbClr val="cc6600"/>
                </a:solidFill>
                <a:latin typeface="Arial Black"/>
              </a:rPr>
              <a:t>Природа и человек </a:t>
            </a: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50920" y="620640"/>
            <a:ext cx="1871640" cy="1920960"/>
            <a:chOff x="250920" y="620640"/>
            <a:chExt cx="1871640" cy="1920960"/>
          </a:xfrm>
        </p:grpSpPr>
        <p:sp>
          <p:nvSpPr>
            <p:cNvPr id="100" name=""/>
            <p:cNvSpPr/>
            <p:nvPr/>
          </p:nvSpPr>
          <p:spPr>
            <a:xfrm>
              <a:off x="320400" y="693720"/>
              <a:ext cx="1718640" cy="172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50920" y="620640"/>
              <a:ext cx="1871640" cy="19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23640" y="1341360"/>
            <a:ext cx="604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Земля – колыбель человека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227640" y="2492280"/>
            <a:ext cx="2417760" cy="3313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00000" y="3213000"/>
            <a:ext cx="478476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Любовь к природе, впрочем как и всякая человеческая любовь, несомненно, закладывается у нас с детства.                                  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Arial"/>
              </a:rPr>
              <a:t>И. Соколов- Микитов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00720" y="3141720"/>
            <a:ext cx="5032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ff"/>
                </a:solidFill>
                <a:latin typeface="Times New Roman"/>
              </a:rPr>
              <a:t>Человек рождён природой</a:t>
            </a:r>
            <a:endParaRPr b="0" lang="en-US" sz="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01080" y="3141720"/>
            <a:ext cx="5032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ff"/>
                </a:solidFill>
                <a:latin typeface="Times New Roman"/>
              </a:rPr>
              <a:t>Относись к ней как к матери</a:t>
            </a:r>
            <a:endParaRPr b="0" lang="en-US" sz="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22 апреля - День Земли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771640" y="1268280"/>
            <a:ext cx="583272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История Дня Земли началась в 1840 г., когда Дж.Стерлинг Мортон переехал со своей семьей на территорию штата Небраска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2381040" cy="190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10103" t="23870" r="9347" b="-143"/>
          <a:stretch/>
        </p:blipFill>
        <p:spPr>
          <a:xfrm>
            <a:off x="6710400" y="2997360"/>
            <a:ext cx="1928880" cy="3860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3573360"/>
            <a:ext cx="590400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Бескрайние прерии с одинокими деревьями, солнце и ветер, от которых негде было укрыться, и иссушенная земля привели Мортона к идее озеленения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22 апреля - День Земли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50920" y="1341360"/>
            <a:ext cx="4681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Он предложил установить день, посвященный озеленению и учредить призы для тех, кто высадит наибольшее количество деревьев. Так в штате Небраска появился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День Дерева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. В 1882 г. День Дерева был объявлен официальным праздником штата и стал отмечаться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22 апреля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, в день рождения Мортона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516720" y="1197000"/>
            <a:ext cx="1847880" cy="2343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48360" y="3068640"/>
            <a:ext cx="2857320" cy="1876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04000" y="4869000"/>
            <a:ext cx="1800360" cy="1358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5148360" y="5373720"/>
            <a:ext cx="1728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321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С 1970 г. идея праздника сменилась. В 1969 году произошла страшная экологическая катастрофа возле американского города Санта-Барбара. Тогда миллионы тонн нефти, вылившейся из скважин, погубили множество пеликанов, журавлей, уток, морских львов, других животных, погибли гектары растительности, была отравлена вода.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857680" cy="2105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88000" y="3213000"/>
            <a:ext cx="2879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5041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3729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С тех пор ведущую роль в праздновании стали играть охрана окружающей среды, экологическое образование и экопросвещение. Появилось и новое название -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День Земли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. Через несколько лет праздник стал всемирным. Начиная с 1990 г. в празднование включились и российские организации.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8917" t="0" r="19567" b="0"/>
          <a:stretch/>
        </p:blipFill>
        <p:spPr>
          <a:xfrm>
            <a:off x="5364000" y="1628640"/>
            <a:ext cx="352908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57243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Перед нами стоит выбор: создать всеобщее содружество и заботиться о Земле, друг о друге либо рисковать разрушением самих себя и всего разнообразия жизни. Мы обладаем достаточными знаниями и технологиями для обеспечения потребностей всех людей и сокращения воздействия на окружающую среду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24360" y="1484280"/>
            <a:ext cx="32194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Природа и человек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321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Охрану природы я считаю делом святым. Это – сохранение и умножение красот Родины.            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6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Л. Леонов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68840" y="1341360"/>
            <a:ext cx="3646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0:51:45Z</dcterms:created>
  <dc:creator>01</dc:creator>
  <dc:description/>
  <dc:language>en-US</dc:language>
  <cp:lastModifiedBy>molinfo</cp:lastModifiedBy>
  <dcterms:modified xsi:type="dcterms:W3CDTF">2008-01-09T06:05:10Z</dcterms:modified>
  <cp:revision>8</cp:revision>
  <dc:subject/>
  <dc:title>22 апреля - День Земли </dc:title>
</cp:coreProperties>
</file>